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A3A7-9DAE-4C56-A0ED-F745AD39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6D9-6E99-4398-BA92-7137E832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9CCC-A921-4F4E-90C6-259F96F1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6C22-DD74-4263-83D8-F8E7AAAF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A3548-EC8F-4FD8-8217-1D324521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842D4-4651-41C9-9811-B33AFA71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11FF9-7CE4-4CF3-8E72-1A697933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C2C97-2C22-4313-933A-CEA90766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1C873-8A60-41F0-9D00-28A09E42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54F07-BB4D-4883-86F7-34DEBC6E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62F73-7CAF-4DAD-B378-036AC9C4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0F44-451D-43EE-9FA4-B1053034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5048D-C13B-4B2D-941F-1C8E5A1E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B8266-D5A1-4FD6-9075-A4F6DB78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E2A4E-1349-4991-8406-D14354A5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5F7A2-458D-4C68-BF57-CB6611CC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692CB-B6B9-43F2-9D7A-DC863ED4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82FA-6F8F-4C5A-B837-3F36284A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27B-7D27-4BFB-BC09-9F4EB9B5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91C5-A380-4947-A359-28B6D17C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6923-6D7E-487C-B037-0E64FE2E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63E9-20C2-4397-9510-96330355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DF21-3EE2-4B8D-B036-52C3CC34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A30D-2A37-4222-ABCD-B60916CA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6501-075C-4AC3-962B-B1A9F46773EC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9162-2466-4DC6-96DA-E772BC53CDDE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../../../papmh/Local%20Settings/Temporary%20Internet%20Files/Content.IE5/Y8G2RHKS/&#26381;&#21209;&#20351;&#29992;&#32773;&#25903;&#25345;(&#25688;FOR&#35519;&#33394;&#29256;).doc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../../../../../../papmh/Local%20Settings/Temporary%20Internet%20Files/Content.IE5/Y8G2RHKS/&#21934;&#20803;&#27963;&#21205;&#35373;&#35336;&#31684;&#20363;.doc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affa909@gmail.co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e3e3ff"/>
                </a:solidFill>
                <a:latin typeface="Arial"/>
              </a:rPr>
              <a:t>個別化服務與活動設計</a:t>
            </a:r>
            <a:br>
              <a:rPr sz="5400"/>
            </a:br>
            <a:r>
              <a:rPr b="0" lang="zh-TW" sz="5400" spc="-1" strike="noStrike">
                <a:solidFill>
                  <a:srgbClr val="e3e3ff"/>
                </a:solidFill>
                <a:latin typeface="Arial"/>
              </a:rPr>
              <a:t>-</a:t>
            </a:r>
            <a:r>
              <a:rPr b="0" lang="zh-TW" sz="5400" spc="-1" strike="noStrike">
                <a:solidFill>
                  <a:srgbClr val="e3e3ff"/>
                </a:solidFill>
                <a:latin typeface="Arial"/>
              </a:rPr>
              <a:t>於中高齡智障者之運用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第一社會福利基金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劉佳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服務導向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生活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正常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個別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適齡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功能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從每日活動中豐富經驗與生活學習機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3e3ff"/>
                </a:solidFill>
                <a:latin typeface="文鼎ＰＯＰ－４"/>
                <a:ea typeface="文鼎ＰＯＰ－４"/>
              </a:rPr>
              <a:t>需求評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需求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參照本人期待、家長期待、生態評估、主客觀情況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各種層次的需求（健康 能力   參與層面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休閒   生涯發展層面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現況分析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項目要週延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要真的個別化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其他專業人員看也可以了解的寫法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同時分析優勢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劣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e.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多採用個案實際表現的狀況作能力評估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依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年度目標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總結評量去年服務成果與目前現況（學習 活動參與  健康  等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聚焦討論對該個案的共識、想法（之前的表現、現況、之後的目標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尊重家屬期待與建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服務回應個別化需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選擇適合的評估工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領域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人際溝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社會技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居家生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休閒生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社區生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實用學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健康維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工作人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作業活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目標設定—善用七個動詞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建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培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維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強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降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提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獲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  <a:ea typeface="文鼎ＰＯＰ－４"/>
              </a:rPr>
              <a:t>目標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希望未來的某一天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(maybe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半年後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),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案主變成怎麼樣的呢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是結果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不是過程中的活動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且要從服務使用者角度來看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練習擦桌子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建立把桌子擦乾淨的能力…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目標要清楚具體可觀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現在的每一個動作，都是服務。如：獲得每天半小時翻閱汽車雜誌的機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3e3ff"/>
                </a:solidFill>
                <a:latin typeface="Arial"/>
                <a:ea typeface="文鼎ＰＯＰ－４"/>
              </a:rPr>
              <a:t>擬定長短期目標需考量的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長期目標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這一年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(or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半年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服務使用者發展的範圍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重點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方向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依據興趣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現況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能量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動詞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內容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例如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培養餐桌禮儀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建立金錢概念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依照各領域中目標的優先順序填寫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短期目標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一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長期目標擬定後才能銜接規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二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是長期目標的細目或具體表現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可有階段性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三應該考量以下因素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符合長期目標的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符合功能性的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符合清楚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具體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可評量之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顧及目標的周延性與層次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粗與細   長期（概念）與短期（可操作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導致不夠個別化的原因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只看能力，評估面向過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對服務使用者的瞭解不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團體制度的維持優先於對個人特質的回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缺乏機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評估與服務時專業整合不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服務提供者專業度不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服務資源不足或彈性不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前言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個別化而不只是個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知己知彼 百戰百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機構內的分工合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因應動態改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ISP</a:t>
            </a: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可以修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計畫趕不上變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原先評估不準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期中計畫修改會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有會議記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e3e3ff"/>
                </a:solidFill>
                <a:latin typeface="Arial"/>
              </a:rPr>
              <a:t>回應個別化目標的</a:t>
            </a:r>
            <a:br>
              <a:rPr sz="5400"/>
            </a:br>
            <a:r>
              <a:rPr b="0" lang="zh-TW" sz="5400" spc="-1" strike="noStrike">
                <a:solidFill>
                  <a:srgbClr val="e3e3ff"/>
                </a:solidFill>
                <a:latin typeface="Arial"/>
              </a:rPr>
              <a:t>活動設計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生活搭配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準時  結構化  標準化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健康飲食  少喝飲料   食物選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提供哪些點心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早安   請  謝謝  對不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教導使用這些用語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老師主動先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吃飯時合理速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用說的提醒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輕鬆愉快的背景音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人際溝通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各種非口語溝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適當距離、互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手牽手？擁抱？親一個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正向語言—誠懇的讚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適當音量 可以降低情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結伴行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管理者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孩子？服務使用者？朋友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堅持？固執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＊不准跑出去</a:t>
            </a:r>
            <a:r>
              <a:rPr b="0" lang="zh-TW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請留在這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＊不要停下來</a:t>
            </a:r>
            <a:r>
              <a:rPr b="0" lang="zh-TW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請繼續往前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＊禁止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OO</a:t>
            </a:r>
            <a:r>
              <a:rPr b="0" lang="zh-TW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鼓勵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Q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情緒支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協助認識各種情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同理  了解  協助轉換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軟軟地板  坐下來喝杯水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協助了解原因 而不只是責備當時行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真正的關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不宜雙重標準（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EX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：憤怒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不宜強化激動程度  宜安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權益支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隱私  敲門  詢問意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可不可以說「不要」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說不要以後會怎樣  會被支持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動作慢的就不能自己選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選擇之前是否希望先都瞭解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不可出現雙重標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接待外賓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參與  自決  機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要評估  但不要先入為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過度保護  可能扼殺參與機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廢用症候群   不用則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創造經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提供機會  協助參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觀念調整與共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活動設計與執行時須考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個人能力優勢與限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功能性的達成標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評估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服務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再評估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再服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團隊合作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職務再設計與輔具的導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從做中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支持策略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引起動機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樂趣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獎勵…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工作分析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步驟拆解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反覆練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避免都是靜態的內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實際操作—帶來經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搭配時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口頭提示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手勢提示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少量協助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大量協助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完整的活動結構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單一主題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多元活動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)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活動表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作息表的安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規劃活動前要有的準備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了解服務使用者的狀況與特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了解服務使用者這半年的個別化服務計畫是什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了解服務使用者本身與家長的期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了解什麼是最急迫且必要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了解哪些是機構最重視的方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服務理念與服務表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服務理念引導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ISP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表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ISP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表格引導服務的實際運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結構化思考需求、策略、目標間的環環相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評估、服務、再評估、再服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專業的養成與呈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活動設計的六大策略</a:t>
            </a:r>
            <a:br>
              <a:rPr sz="4000"/>
            </a:b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策略一</a:t>
            </a: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:</a:t>
            </a: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搭配其生活的活動</a:t>
            </a:r>
            <a:br>
              <a:rPr sz="4000"/>
            </a:b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策略二</a:t>
            </a: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:</a:t>
            </a: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提供誘因的活動</a:t>
            </a:r>
            <a:br>
              <a:rPr sz="4000"/>
            </a:b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策略三</a:t>
            </a: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:</a:t>
            </a: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與節慶有關的活動</a:t>
            </a:r>
            <a:br>
              <a:rPr sz="4000"/>
            </a:b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策略四</a:t>
            </a: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:</a:t>
            </a: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反覆強化的活動設計</a:t>
            </a:r>
            <a:br>
              <a:rPr sz="4000"/>
            </a:b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策略五</a:t>
            </a: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:</a:t>
            </a: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除了學習</a:t>
            </a: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,</a:t>
            </a: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還有輔助支持</a:t>
            </a:r>
            <a:br>
              <a:rPr sz="4000"/>
            </a:b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策略六</a:t>
            </a: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:</a:t>
            </a:r>
            <a:r>
              <a:rPr b="0" lang="zh-TW" sz="4000" spc="-1" strike="noStrike">
                <a:solidFill>
                  <a:srgbClr val="e3e3ff"/>
                </a:solidFill>
                <a:latin typeface="Arial"/>
              </a:rPr>
              <a:t>活動情境的設計與目標促成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策略與原則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建立關係為首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掌握短時間，集中注意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結構化、小步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可以多元化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有時分班上課—像大學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簡單、具體指令，輔以環境選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提供線索引導或提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時時鼓勵與增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安排趣味性、多樣化、生活實用性的互動主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提供正確行為模式以示範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拓展生活經驗，增加體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3e3ff"/>
                </a:solidFill>
                <a:latin typeface="Arial"/>
              </a:rPr>
              <a:t>認識單元活動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以生活重要問題為中心的完整支持活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單元可長可短，通常是以每個月為一個大單元，每一或二個星期為一個小單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不是一堂一堂分散獨立的活動，而是一串圍繞著同一主軸的活動，好幾堂具有不同內容的活動，連起來卻可回應相同的目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優點：多元活動不枯燥、反覆強化、結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豐富領域、彈性大。廣度與系統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3e3ff"/>
                </a:solidFill>
                <a:latin typeface="Arial"/>
              </a:rPr>
              <a:t>建議延伸學習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個人目標如何融入團體活動設計考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同一堂活動中，個人的差異化目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替代性療法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音樂治療  遊戲治療  園藝治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藝術治療  寵物治療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活動的創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活動的素材、資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備課技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個別 小組 團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與其他專業分工合作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護理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教保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治療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心理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營養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7240" y="357120"/>
            <a:ext cx="77695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9999"/>
                </a:solidFill>
                <a:latin typeface="華康少女文字W6"/>
                <a:ea typeface="華康少女文字W6"/>
              </a:rPr>
              <a:t>謝謝聆聽，交流時間～～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文鼎ＰＯＰ－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ffff"/>
                </a:solidFill>
                <a:latin typeface="文鼎ＰＯＰ－４"/>
                <a:ea typeface="文鼎ＰＯＰ－４"/>
              </a:rPr>
              <a:t>歡迎聯絡</a:t>
            </a:r>
            <a:r>
              <a:rPr b="0" lang="zh-TW" sz="3200" spc="-1" strike="noStrike">
                <a:solidFill>
                  <a:srgbClr val="ffffff"/>
                </a:solidFill>
                <a:latin typeface="文鼎ＰＯＰ－４"/>
                <a:ea typeface="文鼎ＰＯＰ－４"/>
              </a:rPr>
              <a:t>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E-mai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affa909@gmail.com</a:t>
            </a:r>
            <a:r>
              <a:rPr b="0" lang="zh-TW" sz="32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316548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價值觀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訓練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支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學習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生活品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提供機會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獨立生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與個別化服務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支持設計與策略的精神連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生涯發展與對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00720" y="4638600"/>
            <a:ext cx="284328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個別化服務基本流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需求評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擬定個別化服務計畫初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召開個別化服務計畫會議確認計畫內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實施服務提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監督管理服務、評估使用狀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再度需求評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個別化，評估哪些？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評估  是為了服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已經具備的能力、已表現的行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可能具有的潛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個性、特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健康情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個人重大事件史、經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家庭情況、需求期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個人興趣與期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優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專業整合的</a:t>
            </a: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IS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專業合作 但不要只是各自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資料放在一起並非真正的整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新細明體"/>
              </a:rPr>
              <a:t>支持系統   也需要被支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專業整合的</a:t>
            </a: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IS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3573360"/>
            <a:ext cx="237672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99"/>
                </a:solidFill>
                <a:latin typeface="Arial"/>
              </a:rPr>
              <a:t>個別化服務計畫（</a:t>
            </a:r>
            <a:r>
              <a:rPr b="0" lang="zh-TW" sz="2400" spc="-1" strike="noStrike">
                <a:solidFill>
                  <a:srgbClr val="003399"/>
                </a:solidFill>
                <a:latin typeface="Arial"/>
              </a:rPr>
              <a:t>ISP</a:t>
            </a:r>
            <a:r>
              <a:rPr b="0" lang="zh-TW" sz="2400" spc="-1" strike="noStrike">
                <a:solidFill>
                  <a:srgbClr val="003399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2133720"/>
            <a:ext cx="3888000" cy="13262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99"/>
                </a:solidFill>
                <a:latin typeface="Arial"/>
                <a:ea typeface=""/>
              </a:rPr>
              <a:t>個別化支持、支持、訓練計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99"/>
                </a:solidFill>
                <a:latin typeface="Arial"/>
                <a:ea typeface=""/>
              </a:rPr>
              <a:t>（</a:t>
            </a:r>
            <a:r>
              <a:rPr b="0" lang="zh-TW" sz="2000" spc="-1" strike="noStrike">
                <a:solidFill>
                  <a:srgbClr val="003399"/>
                </a:solidFill>
                <a:latin typeface="Arial"/>
                <a:ea typeface=""/>
              </a:rPr>
              <a:t>MAYBE    ISP</a:t>
            </a:r>
            <a:r>
              <a:rPr b="0" lang="zh-TW" sz="2000" spc="-1" strike="noStrike">
                <a:solidFill>
                  <a:srgbClr val="003399"/>
                </a:solidFill>
                <a:latin typeface="Arial"/>
                <a:ea typeface="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99"/>
                </a:solidFill>
                <a:latin typeface="Arial"/>
                <a:ea typeface=""/>
              </a:rPr>
              <a:t>社工 教保 治療師 生服 特教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3645000"/>
            <a:ext cx="4032360" cy="132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63416"/>
                </a:solidFill>
                <a:latin typeface="Arial"/>
              </a:rPr>
              <a:t>個別化家庭服務計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63416"/>
                </a:solidFill>
                <a:latin typeface="Arial"/>
              </a:rPr>
              <a:t>（</a:t>
            </a:r>
            <a:r>
              <a:rPr b="0" lang="zh-TW" sz="2000" spc="-1" strike="noStrike">
                <a:solidFill>
                  <a:srgbClr val="463416"/>
                </a:solidFill>
                <a:latin typeface="Arial"/>
              </a:rPr>
              <a:t>IFSP</a:t>
            </a:r>
            <a:r>
              <a:rPr b="0" lang="zh-TW" sz="2000" spc="-1" strike="noStrike">
                <a:solidFill>
                  <a:srgbClr val="463416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63416"/>
                </a:solidFill>
                <a:latin typeface="Arial"/>
              </a:rPr>
              <a:t>社工 護理 教保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6000" y="5157720"/>
            <a:ext cx="3888000" cy="862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63416"/>
                </a:solidFill>
                <a:latin typeface="Arial"/>
              </a:rPr>
              <a:t>個別化健康服務計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63416"/>
                </a:solidFill>
                <a:latin typeface="Arial"/>
              </a:rPr>
              <a:t>（</a:t>
            </a:r>
            <a:r>
              <a:rPr b="0" lang="zh-TW" sz="2000" spc="-1" strike="noStrike">
                <a:solidFill>
                  <a:srgbClr val="463416"/>
                </a:solidFill>
                <a:latin typeface="Arial"/>
              </a:rPr>
              <a:t>IHP</a:t>
            </a:r>
            <a:r>
              <a:rPr b="0" lang="zh-TW" sz="2000" spc="-1" strike="noStrike">
                <a:solidFill>
                  <a:srgbClr val="463416"/>
                </a:solidFill>
                <a:latin typeface="Arial"/>
              </a:rPr>
              <a:t>）社工 護理 營養 廚師 治療師 教保生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916000" y="2781360"/>
            <a:ext cx="1439640" cy="100800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916000" y="4005360"/>
            <a:ext cx="1368360" cy="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916360" y="4149720"/>
            <a:ext cx="1441440" cy="151272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ISP</a:t>
            </a:r>
            <a:r>
              <a:rPr b="0" lang="zh-TW" sz="4400" spc="-1" strike="noStrike">
                <a:solidFill>
                  <a:srgbClr val="e3e3ff"/>
                </a:solidFill>
                <a:latin typeface="Arial"/>
              </a:rPr>
              <a:t>會議怎麼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主席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開場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草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個管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教保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護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家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交流  決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4T13:03:51Z</dcterms:created>
  <dc:creator>Jackie</dc:creator>
  <dc:description/>
  <dc:language>en-US</dc:language>
  <cp:lastModifiedBy>Jackie</cp:lastModifiedBy>
  <dcterms:modified xsi:type="dcterms:W3CDTF">2015-10-06T13:17:26Z</dcterms:modified>
  <cp:revision>66</cp:revision>
  <dc:subject/>
  <dc:title>個別化服務計畫之設計</dc:title>
</cp:coreProperties>
</file>